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B61-59AF-4D31-BF75-D8793CB3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3BD-949F-4B4A-B8EA-2308386E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8D811F-A9E1-42F0-B9BE-F7D138C3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BB093-8E28-40C0-9DF2-ABA1A32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755B3-25E8-44D5-ABE0-F31F003A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8C323-F073-4F96-B95B-1F58094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E917F-C426-4EA5-A2A9-49004EF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DA9B5-6FFE-42B9-AF87-2C9F214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7050EA-4A11-4F4D-8335-E745495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AF01C-62AA-47A8-9EAD-2D73D42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E2429-41EC-4816-9B24-0ABD083F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75BEA-A436-46AA-A81D-ECC5FFEF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8290-C02C-4E0E-BD1E-0E9DC69D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E5122-8987-4DCE-82FD-299F589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1CD53-AC07-4C55-B0DB-3B28D18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EF9ABE-B25C-4358-9FB7-1F62CFDE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D8E00-4209-454A-891E-350E06E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E0300-DB8B-4DA2-86FC-FCA78E9B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63837-F959-4A22-BAAC-D60506EB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6BF62-B391-4CBC-BFE1-60F8816D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9229D-1B22-4C16-BA08-94D5372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7EB6D-F7EC-437E-B60E-4B837E5F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05FCF-ACF1-44E7-8ECF-0E422103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8B3-9802-4001-8DC2-FAEAAC49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ECFC5-A308-408A-B018-175D59D0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EA785-A3D0-4A78-8D75-60E51499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C60D8-B572-4C0D-A697-E04D8DB4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8A8D0-F32E-4ADF-853C-DBEAF9C4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2C23C-ABC1-4FFF-857A-CBD3937B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FD45E-C486-45B8-A00C-3B383BD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52F6-1D4C-49BB-9882-0788B7F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367E0-FF50-400F-9E63-F754FFB3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47753-04A0-4071-AC19-A3381F0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CEC37-12F2-43B9-971C-7F2F086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F065-88BE-4E54-83A9-970ED019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6F1D4-CF75-44BF-96D9-FD4BDBC0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3DB34-E38F-47E1-81EC-F2779064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FC783-21B0-447B-8055-9F596C4B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3D44E-4C8A-4979-B522-E8040211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D8C66-69A6-4114-B333-BF2B2BF1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C54EB-B466-4974-ADCB-3F60AB5E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13595-6D68-43EB-BF0E-1846D801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CDF1F-B9E0-4337-8C13-4A9933FD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98469-482B-49DF-96CA-2C533AAC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438C2-EEA9-4CFB-822D-E286896B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BC3-5848-427B-9AD4-F0E5FF8E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AF3C4-F305-4A97-863A-8C17BE7C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9F7DF-9ABA-45AD-A442-52CDF39C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D88F8-7B1F-4650-9F3D-8C1C3C7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2A1FA-5082-4D4B-BABF-EE20A6AB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56BE9-56D6-442B-84C7-0E851B8F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6815-894F-4C45-8CD9-A5A3B9FA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47C-3123-4978-886A-B25A42C5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00AD-7B0D-4B21-9316-A830E66E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A33F-346D-4DE4-B2E1-1FDDC9ED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8F7B-B119-418C-BD59-7A3DFA6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F1A-0A6C-4D8A-908B-8D084FF2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71F0-324C-4E05-8FBB-4D39B9D4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A03F-42C2-470C-88E0-E0D9E88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E821-0CFA-46F1-9B51-AC3FF1D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FC1B-9A09-4C14-B4BA-9F99B85D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43F8-8A98-4C5E-8E96-8DA81738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A4C4-A83A-407F-9116-3E6CB891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0449-0CEF-4FE3-91EB-C5469C09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ACBF-5633-4DF8-84C1-641FE292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D862-B3FD-4001-897F-6026E721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4B66-4E70-49A7-89A0-5E21D849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1E3-1AE3-4336-99DB-96A07A11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1E23-DB4F-4E03-8FED-4D10350B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652E9-70A7-4281-9EB4-DF51BE3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BF92-857C-4B99-B20C-68BEA6E0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A48F-62FE-4B45-8A86-AB663CD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D451-B673-4530-9647-72A84C1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BBE2-BD6D-41E7-8C18-61AA0C4B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626B-1D78-4948-9779-57FA56F3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D122D-8BEB-4AF8-91A9-04E4AFFE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54A4-8928-4A5F-B4B4-390D8154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0A9A-4636-4ACE-868F-B4DE2884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B12-9D92-4A60-B4D0-1D0A7B0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EA5B-559E-4556-8E57-4B601AB8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130E-8E2B-47C5-973D-ED5A0BC0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2AFB-F67D-40C8-8F17-9C6CBD64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915E-3E4F-4647-ABF8-FF7753AA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1E04-D60C-4109-9B0B-9F7FFC4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3150-DB2B-41C7-A9C3-C6195BF4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EA3A-B3F4-4B77-8BC5-75B29C7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E4FA6-F368-494E-8B62-52DF1157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D1E78-8F76-41E4-96C2-F37C93EA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AA9F-6B93-4F18-8EB4-92CD5239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203-1F65-4756-BC41-49F409A2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DB941-21AE-4D4D-A390-77F81466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3578F-F860-45E9-8984-345FDABC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8EFCB-9B2E-4BDD-AE6A-A1AD3FC3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5FE4-45B9-429B-9D13-E5D867C1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755A-C9FB-4C41-BB2B-409AEB12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B870-70B1-497D-817E-AC23A5AC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99E5-2FFA-48B2-9A2D-62ABED6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F769F-0E82-4FF3-A06E-93C074A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AF5E0-7934-4577-A7A2-4D2AB72A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6A1F-DA37-4045-9A64-DB0EB13F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4FD-CAB4-40AA-9914-102C64A0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DCE1-43BC-4767-ACF6-52565901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7820A-909E-4869-AE15-2F294292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0D9FF-FA64-4028-92FE-B2DDA9D3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2712-D69C-4421-ADD0-65213069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9CF43-2017-4424-8290-07ED284F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FB39-63E3-4D4C-9337-A63471D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2852-C0B4-490D-8C6E-CC033FB2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79CD-9D9E-4725-9F93-D1C5601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87AD-B749-4B8B-9939-F5249DB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8490-FAC2-4F7B-8E7E-38087126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C3A-C034-411B-B9AC-BEE79A9B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9825-7187-4E76-A8DA-1C0B3D47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710A-0C3B-47F9-95FC-15E49C69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6B6D-B12D-4271-96F9-90D753F3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17C3-65F6-4F22-81F8-402136E5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62C6-637C-4A7E-94D3-BB7DA287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03D4F-2A55-4319-9E27-720DD6D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7F46-18B9-48F6-B12A-3FB5B9D8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45552-4CCC-408D-8B68-C334B861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A7BF-2C35-49E7-BEA9-A11DE9EC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C0058-A625-4167-AD8F-EEB30E2C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46A-0F83-496E-91CF-04C01B10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AA124-29A9-47BD-8760-0EE4D127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4C06D-61ED-4CCA-880E-0DFEECF5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08B37-242D-4AE8-A798-6C6CDDB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072E7-CC4E-4040-8FA8-1BC4938D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580D7-3B83-4388-8070-0182822C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74E3-95ED-443D-BD78-B3DAD05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10E30-4FBD-437D-9ADD-3D5CD7A8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82FAB-00A3-4B4D-8257-D712CF3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DF95-9469-4934-92F4-4D079174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8FB75-811B-469F-916D-8A40CE73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4AD-6D5F-4D35-BCEF-ED7BA5BF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190080"/>
            <a:ext cx="853452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51CD2-8ED3-455D-9C67-817F7F4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AE7A-20AC-4C93-B619-BE1FDA0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6339C-EB57-40A1-8D30-FC2C2527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95FD9-ABF5-44F8-A79D-C9A1B27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271320"/>
            <a:ext cx="853452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64BE-23F6-4173-B91B-EA7DC9CA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2697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271320"/>
            <a:ext cx="416484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35408-60FC-4A54-9255-60A53AC1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2697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271320"/>
            <a:ext cx="2747880" cy="18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1C6AF-A38A-4FFD-99D7-325F2A6C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5BAB7-6680-4C1E-9317-63DFE543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2F4BD-AE9F-4DAD-B816-08BC8BBD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DABCA-696C-4696-86E9-A8AF8BF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8665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80A8-9169-4E16-B98F-12091F74845A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4446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27080"/>
            <a:ext cx="8832960" cy="250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507960"/>
            <a:ext cx="2743200" cy="4889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1904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270000"/>
            <a:ext cx="419040" cy="3492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2599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A376-ABBE-462A-AE51-74ECB4B990F4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5342040"/>
            <a:ext cx="3584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8665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4423-E06A-443B-B7F5-7EC0A4C005A1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30320"/>
            <a:ext cx="0" cy="520380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438280"/>
            <a:ext cx="60948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2516040"/>
            <a:ext cx="420480" cy="351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250776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DEF5-B94F-4DDD-AB55-965B69308921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0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0160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2708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176220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1841400"/>
            <a:ext cx="419040" cy="351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1833120"/>
            <a:ext cx="457200" cy="36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9AA-BFEA-4ADD-A2A9-6FF40ECF6932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855720"/>
            <a:ext cx="457200" cy="36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5103-4BF8-43B7-A07C-F90A5948DED0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584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1905120"/>
            <a:ext cx="8832960" cy="25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19160"/>
            <a:ext cx="8832960" cy="1782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2708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0318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176220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1841400"/>
            <a:ext cx="419040" cy="3510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1833120"/>
            <a:ext cx="457200" cy="36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219-9C00-4B2D-9E72-66659356A94C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312920"/>
            <a:ext cx="9360" cy="401616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5342040"/>
            <a:ext cx="3044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8665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B4A-E414-4681-8CB5-93D433601390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1833120"/>
            <a:ext cx="0" cy="34894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2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143000"/>
            <a:ext cx="8832960" cy="7621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0666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86796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B438-0956-480C-92BF-4A6F5B0B6111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30320"/>
            <a:ext cx="8832960" cy="54543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0638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7970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874800"/>
            <a:ext cx="419040" cy="3506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86328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AC9-70E9-4E6C-8FE1-7B79740E39EB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5326200"/>
            <a:ext cx="8832600" cy="2584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3176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534204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5270040"/>
            <a:ext cx="60984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577F-95BC-4554-A8A7-EFA2C4C9DD5E}" type="slidenum">
              <a:rPr b="0" lang="en-C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27080"/>
            <a:ext cx="8832960" cy="2538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5587920"/>
            <a:ext cx="91440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507960"/>
            <a:ext cx="2743200" cy="4889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27080"/>
            <a:ext cx="8832960" cy="54561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4446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190440"/>
            <a:ext cx="609840" cy="507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270000"/>
            <a:ext cx="419040" cy="3492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5322960"/>
            <a:ext cx="8832600" cy="2588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269720"/>
            <a:ext cx="85345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259920"/>
            <a:ext cx="45720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5BCB-7183-439C-985E-3FD961211A4C}" type="slidenum">
              <a:rPr b="0" lang="en-C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5336640"/>
            <a:ext cx="3044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5342040"/>
            <a:ext cx="338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Subtitle 2" descr=""/>
          <p:cNvPicPr/>
          <p:nvPr/>
        </p:nvPicPr>
        <p:blipFill>
          <a:blip r:embed="rId2"/>
          <a:stretch/>
        </p:blipFill>
        <p:spPr>
          <a:xfrm>
            <a:off x="1689120" y="1090440"/>
            <a:ext cx="6851520" cy="976320"/>
          </a:xfrm>
          <a:prstGeom prst="rect">
            <a:avLst/>
          </a:prstGeom>
          <a:ln w="0">
            <a:noFill/>
          </a:ln>
        </p:spPr>
      </p:pic>
      <p:pic>
        <p:nvPicPr>
          <p:cNvPr id="607" name="Title 1" descr=""/>
          <p:cNvPicPr/>
          <p:nvPr/>
        </p:nvPicPr>
        <p:blipFill>
          <a:blip r:embed="rId3"/>
          <a:stretch/>
        </p:blipFill>
        <p:spPr>
          <a:xfrm>
            <a:off x="96840" y="152280"/>
            <a:ext cx="815652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Big Idea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echnological applications that affect biological processes and cellular functions are used in the food, pharmaceutical, and medical industri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iological molecules and their chemical properties affect cellular processes and biochemical react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iochemical compounds play important structural and functional roles in cells of all living organism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Overall Expect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eorgia"/>
              </a:rPr>
              <a:t>B1. analyse technological applications of enzymes in some industrial processes, and evaluate technological advances in the field of cellular biology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eorgia"/>
              </a:rPr>
              <a:t>B2. investigate the chemical structures, functions, and chemical properties of biological molecules involved in some common cellular processes and biochemical reactions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eorgia"/>
              </a:rPr>
              <a:t>B3. demonstrate an understanding of the structures and functions of biological molecules, and the biochemical reactions required to maintain normal cellular functio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Minds 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ST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History: A Case Stu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3.2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describe the structure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of important biochemical compounds, including carbohydrates, proteins, lipids, and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nucleic acids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, and explain their function within ce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Francis and Crick DNA paper from Nature 195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DNA Ladder: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3.2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describe the structure 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of important biochemical compounds, including carbohydrates, proteins, lipids, and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nucleic acids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, and explain their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function within cel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Wet Lab: Enzym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B2.5 plan and conduct an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investigation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related to a cellular process (e.g., factors that affect </a:t>
            </a: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enzyme activity</a:t>
            </a: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; factors that affect transport of substances across cell membranes), using appropriate laboratory equipment and techniques, and report the results in an appropriate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 u="sng">
                <a:solidFill>
                  <a:srgbClr val="000000"/>
                </a:solidFill>
                <a:uFillTx/>
                <a:latin typeface="Georgia"/>
              </a:rPr>
              <a:t>Catalase and Rates of Re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190080"/>
            <a:ext cx="853452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 u="sng">
                <a:solidFill>
                  <a:srgbClr val="ff0000"/>
                </a:solidFill>
                <a:uFillTx/>
                <a:latin typeface="Georgia"/>
              </a:rPr>
              <a:t>Conclu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2729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6:45:07Z</dcterms:created>
  <dc:creator>yogiji</dc:creator>
  <dc:description/>
  <dc:language>en-US</dc:language>
  <cp:lastModifiedBy>Admin</cp:lastModifiedBy>
  <dcterms:modified xsi:type="dcterms:W3CDTF">2012-01-31T14:39:46Z</dcterms:modified>
  <cp:revision>13</cp:revision>
  <dc:subject/>
  <dc:title>Biology 12</dc:title>
</cp:coreProperties>
</file>